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B22A-C4B8-4A67-B8CC-7574DF99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E1C-5070-45B1-97BB-D3E5C51F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629-F438-49D2-9214-1519ABB9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517-D2EF-4BB4-A330-501B0A1F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03C-1E7A-493A-BC52-3CB69465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32B5-F984-4A6B-964A-65609C57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CC1-8D8A-4874-9CD2-8CF917E7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C4F-06FB-4E03-91E6-4748F909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F20-0659-4D43-9C7C-50461EF1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28AC-86E2-491D-82C0-97EC058A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D42E-D7A7-4B29-8B23-5DE53685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AD7-5DDE-47B6-8763-0DF6AD46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8CC7-9B4B-4DB3-88C6-6E1BD6A8A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 in Singap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 Leadership i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st and capable leader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eaders make the right decisions for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eaders must have moral courage and integ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eaders do what is right and not what is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 Leadership i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eadership and governance do not occur by ch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eaders are selected and groo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 also selected based on good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 Leadership i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sty is highly valued in a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 must be inco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ruptible leaders win the confidence and respect of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w deals with leaders guilty of dishonest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 Leadership i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eadership needed in every segment of Singapore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former chairman of the National Arts Council (NAC) Mr. Liu Thai 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more opportunities for local tal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Arts events were organ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2 Anticipate Change and Stay Relev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government to be forward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elf-sufficiency in water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ly, Singapore depends on Malay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ments with M’sia end in 2011 and 20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apore found alternative water 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communicated that NEWater was s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2 Anticipate Change and Stay Relev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d Res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rism has always been important for S’pore’s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ly, Tourism faces more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Asian countries developing tourist at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apore needs to improve the tourist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pril 2005, the government decided to build two Integrated Res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2 Anticipate Change and Stay Relev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ing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apore has to be open to new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apore needs to be willing to take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can come up with creative and innovative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ingaporean needs to upgrade knowledge and skills to stay employ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3 Reward for Work and Work for Re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tocracy is key to this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tocracy is a system which rewards hard work and t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ard encourages people to do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Exceptional students are rewar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tocracy given an equal opportunity to all to achieve their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plus from Singapore’s growth has also been shared as a reward for har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4 A Stake for Everyone, Opportunities for 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eater sense of belonging is created when people have a say in decision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pportunities have been created to involve people in decision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onsultation with the people on having a cas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 Measures to control the flow of 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a Licens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0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ngapore experienced rapid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volume was especially high during peak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made plans to manage traffic before it became too ser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Governance in Singap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stability in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s a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’s people’s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s sovereig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 Measures to control the flow of 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a Licens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Licensing Scheme (ALS)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ists had to pay for use of certain r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ds bounded within areas designated as Restricted Z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ntries set up to monitor motor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 Measures to control the flow of 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a Licens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upport ALS, other measure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bus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cost of parking c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park-and-ride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LS started, motorists were un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 ALS reduced the number of 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, ALS was successful in ensuring smooth traffic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 Measures to control the flow of 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onic Road Pr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successful but room for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technology = more efficient ways of monitoring and regul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enabled transport system to stay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nvenient &amp; labour-intensive ALS replaced by Electronic Road Pricing (E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P more efficient and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 Measures to control the flow of 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k-and-Ride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at same time as 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ists park vehicles at specific car parks outside the C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ists would use public transport from the car p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er vehicles in the C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 Measures to control the flow of 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k-and-Ride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ed like a good idea but not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nt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ists switched to public transport or drove in before 7.3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worthwhile for motorists to leave cars parked outside city all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 Measures to control the flow of 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k-and-Ride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ous overs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ions of dollars inv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allocated for car park not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uttle bus companies set up for this scheme not able to surv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cheme still used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of people change and what did not work in the past may work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 Measures to control the flow of 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hicle Quota System (VQ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p increase in car ownership in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gent need to control car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Transport Authority (LTA) determined the number of new vehicles allowed for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ways to administer VQS was through the Certificate of Entitlement (COE)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 Measures to control the flow of 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hicle Quota System (VQ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number of new cars are issued based on a quota by 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 buyers must bid for COE before purchase of a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A sets the quota for the month and quota premium based on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 bidders will pay for the C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 entitles vehicle ownership for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 must be renewed after 10 years if owner still wants to use the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2 Why was there a need to promote population grow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lining birth rate from the 198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980, fertility rate hit 1.82 children per woman (replacement level is 2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planning policy to reduce birth rate wor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factors affecting birth rate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costs of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marrying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2 Why was there a need to promote population grow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lining birth rate from the 198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jobs created in industries and larger workforc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power also needed for national def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babies born was below replace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re-examine the population policy because of potential problems of a small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of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ve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s held once every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vote for their cand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s with the most votes serves as a Member of Parliament (M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 of the party with the most MPs is invited to be Prime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 Minister forms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2 Why was there a need to promote population grow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ttractive to Multinational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small population, Singapore not able to produce enough t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ented people needed to susta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national corporations (MNCs) would find it difficult and expensive to recruit Singaporeans compared to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apore would also be less attractive because of smaller consumer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2 Why was there a need to promote population grow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ing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er babies means fewer young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older people becomes proportionately la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will face an ageing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esources would have to used to take care of senior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3 How did the government promote population grow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aduate Mothers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 Lee felt that female graduates should have more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te Mothers Scheme introduced in 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e sparked debate and unhapp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-educated were unhappy as they felt negl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government policies win the support of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e was withdrawn on yea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3 How did the government promote population grow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or more if you can affor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made to population policy in 19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ed to bring replacement level to 2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 encouraged to have three or more children if they could affor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adopted a cautious approach because of recession in 19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oo many babies were born, serious problems might arise if families could not cope financ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3 How did the government promote population grow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or more if you can affor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lieve financial burden, government introduced certain measures such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ing use of Medisave to pay for delivery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some people felt the assistance wasn’t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had limited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pite publicity campaigns, many married couples continued to have only one or two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ngaporeans still married later or remain unmar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3 How did the government promote population grow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pro-family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ised medical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parent caregiver 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day work week for Civil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maternity le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3 How did the government promote population grow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racting foreign t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enhance competi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ign Talent (FT) helps boost quality of man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 helps create more jobs and boost cre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t relaxed immigration policy in 19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entry, subsidised housing and attractive education package offered to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3 How did the government promote population grow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racting foreign t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t hoped that more FTs would take up permanent residence or citize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more FTs, Singapore has become more cosmopoli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nationalities living in Singapore have enriched Singapore’s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1 How will an ageing population impact Singap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2133720"/>
            <a:ext cx="32767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for more healthcare and so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581280"/>
            <a:ext cx="36576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ing of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334120"/>
            <a:ext cx="32767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 in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5334120"/>
            <a:ext cx="3200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n on working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2362320"/>
            <a:ext cx="32767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security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7" idx="1"/>
            <a:endCxn id="116" idx="2"/>
          </p:cNvCxnSpPr>
          <p:nvPr/>
        </p:nvCxnSpPr>
        <p:spPr>
          <a:xfrm rot="10800000">
            <a:off x="2018520" y="2786760"/>
            <a:ext cx="724680" cy="10612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7" idx="1"/>
            <a:endCxn id="118" idx="0"/>
          </p:cNvCxnSpPr>
          <p:nvPr/>
        </p:nvCxnSpPr>
        <p:spPr>
          <a:xfrm flipV="1" rot="10800000">
            <a:off x="2094840" y="3847680"/>
            <a:ext cx="648360" cy="1486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7" idx="3"/>
            <a:endCxn id="120" idx="2"/>
          </p:cNvCxnSpPr>
          <p:nvPr/>
        </p:nvCxnSpPr>
        <p:spPr>
          <a:xfrm flipV="1">
            <a:off x="6400440" y="2741040"/>
            <a:ext cx="724680" cy="110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7" idx="3"/>
            <a:endCxn id="119" idx="0"/>
          </p:cNvCxnSpPr>
          <p:nvPr/>
        </p:nvCxnSpPr>
        <p:spPr>
          <a:xfrm>
            <a:off x="6400800" y="3848040"/>
            <a:ext cx="838800" cy="1486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2 Meeting the challenges of an ageing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citizens as assets to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2030, 19% of Singaporeans will be over 65 years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 to ensure that seniors citizens remain contributing members of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ior citizens have valuable skills, knowledge, talent and work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add value to public and private organisations and boost family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How does the Government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MPs and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President and Cabi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s laws made by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ers government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2 Meeting the challenges of an ageing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Helping Hands’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has a part to play in helping prepare for an ageing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mun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 govt’s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of responsibility reduces govt’s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t can rely less on increasing taxes to care for eld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hared responsibility, resources are saved to meet other needs of the 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2 Meeting the challenges of an ageing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ividu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ensures that he ages gracefully through lifelong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ing a healthy lifestyle by watching diet and exercising regul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financially prepared for life in old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ing talks and reading relevant materials to plan for ret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2 Meeting the challenges of an ageing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mi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, stable families bring social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 is main source of emotional, social and financi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t introduced measures to strengthen family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ior Citizens’ Week held annually in N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s elderly to stay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s positive attitude towards ag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dparents’ Day also held in N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 families together to show appreciation for eld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2 Meeting the challenges of an ageing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munit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can give social and emotional support and provide healthcare and soc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t provides subsidies to voluntary welfare organisations who help senior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Home Nursing Foundation for E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organisations involve members of the community to help look after needs of eld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2 Meeting the challenges of an ageing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munit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ommunity organisations also offer free health checks and organise recreationa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ervices and activities help senior citizens remain physically, mentally and socially 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2 Meeting the challenges of an ageing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vernm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for the Maintenance of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 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rovident Fund (C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Housing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How does the Government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ici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various judges and law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that laws are justly carrie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laws passed do not breach th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1 The Legisl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of Law-ma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eading: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Reading: Reasons for the B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Reading: Bill is passed by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to Presidential Council for Minority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 is sent to th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ial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 The Execu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process to Execu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gives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 raises the issue to respective Min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ry justifies actions or proposes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 The Judici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ition of the Judici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Ju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ges in law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ies of the Judici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judgements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fluenced by political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Guiding Principles of Gover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1 Leadership is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2 Anticipate Change and Stay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3 Reward for Work and Work for Re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4 A Stake for Everyone, Opportunities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9:18:02Z</dcterms:created>
  <dc:creator>moe</dc:creator>
  <dc:description/>
  <dc:language>en-US</dc:language>
  <cp:lastModifiedBy>moe</cp:lastModifiedBy>
  <dcterms:modified xsi:type="dcterms:W3CDTF">2009-06-07T08:48:19Z</dcterms:modified>
  <cp:revision>18</cp:revision>
  <dc:subject/>
  <dc:title>Governance in Singapore</dc:title>
</cp:coreProperties>
</file>